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C91BB-8B2D-4605-AD06-D11EB0E7D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3AC9C-1248-4D59-B420-176C860F6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EAF96-7D49-47A1-B3F0-8D55D546B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56B9D-5049-44CD-B400-7DB317125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BDAC3-2457-4931-B587-65F6E7A5C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58D89-E48D-4AFE-83AA-F8B0639F1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4C186-3227-4B8B-ADAD-53E126BD7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B93B7-42A6-41AA-9D64-3ECD5FA15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CB515-4AAB-4EB0-AF29-799CEC579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4AC2F-6CA3-47F7-9266-E4F9FB4F0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D4AAE-DB6F-44F9-9430-270FED265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3C3DA-B7B4-490A-9B54-A3B4FEF81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08774-014D-4EDA-AE62-28EB3FD8F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7E85A-A1B4-41E0-85D3-B77703183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1F0DC-1AD1-4756-9E45-75A0CFBD4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D828F-E0F6-4FA3-AE09-0A222FA93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56570-1C27-4A48-BBFE-E7DD5D63D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CEFCBD-A3E8-42BE-90B7-A12743888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11076-9CF1-4698-872D-CDF8AC954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88E7F-D2C9-4AB6-B1E5-62623479A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B406E-892D-46D7-A892-69C060D4D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09039-738B-41A5-AFFD-3287266D38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1D4A3-55BB-4BE3-BFCF-1E9C1CB9A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4CD92B-CD57-4F39-A130-6B868234F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A676D-0A7B-4AB8-B570-D2FDA9AD8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D7241-1072-4AED-9B3D-E5E403E48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B7615-54A9-45EF-AB30-82F5C286C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036946-D89C-4488-8515-F71DD5425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EBC1D2-5610-419E-8242-38D38C6531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ECB1CC-8300-4FF0-8D16-4FC643B399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622594-2EB4-4816-BB49-8C97C28B9C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B5EBB2-1393-47F0-A59B-DB269E458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7A5A98-1811-48C2-820D-CD011753F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DE822-6BA2-4A7C-B96E-10553CC4C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6AE7F9-CBC9-4E19-A8C8-AA600EF452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6CA37-39EC-4ED7-8ED7-73BABB3B3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7C0D4-C461-4DA7-941F-7F56B58FFC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50E29-BF90-4701-872A-3ABBF984D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1AE41-3475-435C-8CE9-A4CD70D26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BA3F8-61DB-4998-8CEE-A31BD0BC8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2107C8-106A-4FA6-9D94-AEA363BB9B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855784-6FED-4373-B289-3CB854E049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0C6B97-7430-4306-9518-24B9B70623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FBDE42-93D9-446C-A179-836F53F747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692A2-0F5B-49A5-B10C-4B384ECD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3EA22-5CFF-4A64-88F2-414E5D3C1A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6B934-081C-4707-84BE-B0C939C61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AE1B6-D7B1-4A3B-9EF9-7E30BF9945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C77260-D040-449F-8DFC-D81E5A6F3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04D180-9EC2-4D6A-9262-41E7CE783A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F9EE6-E1F9-4451-979A-D05427827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B7A33-A087-4141-B609-7CC374FE6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A3107E-DBFE-4BE9-B892-1DCEB4F11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AB8E2-C0A2-4687-90CC-7419D18BA0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38115A-D60A-41CC-9119-9B22176BC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43803-682B-4CB9-8151-347DF6430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6C1AAF-1C6B-4CB6-AC98-771F3444DD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1A32E0-6F1D-444A-A112-1BA5485E8F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1F2321-E613-4FB4-B47E-BB8C6896F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6D6DC7-1D18-44AE-991D-39F0390E7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8C11E8-35A9-41E2-A2DC-1CE2ED0846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E7BC43-9999-4FC0-9CCB-B1F0F40147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BF0078-09D9-4064-B055-22EE43EA57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38A58C-9750-4BB5-AEFF-C61B4EBE5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CE0FE-93E5-48C6-840A-9ED0B190D9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9BC8E-A64E-4AAF-ACC7-34399A7B34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BB6B5-E0BF-4E91-BF2A-E6C326F0F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A99613-962E-44C4-9227-AA57464DBA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CF887A-6347-40F7-960A-981AF139A8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BC87FA-D5A0-4E44-9517-5AEFC19D70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C19A-F743-4FF7-932C-9E7EC853D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8C92C-7B2B-4430-977A-909C222F0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5550-9BC6-49CB-8410-AA567DC8F42A}"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e1e1e"/>
            </a:gs>
            <a:gs pos="100000">
              <a:srgbClr val="7b7b7b"/>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D93B-D50C-496A-BE00-0F77291B6E7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e1e1e"/>
            </a:gs>
            <a:gs pos="100000">
              <a:srgbClr val="7b7b7b"/>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8484-4AC2-4841-9E73-20EA0F4D868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2AC8-C346-4517-80A5-8D34C24331D5}"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C76A-CC93-4137-8022-1093D4C9C893}"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534A-B207-44B3-B385-D633A53AF4F2}"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Six Steps to Develop a Compelling, Novel Idea </a:t>
            </a:r>
            <a:r>
              <a:rPr b="0" lang="en-US" sz="1300" spc="-1" strike="noStrike">
                <a:solidFill>
                  <a:srgbClr val="ffffff"/>
                </a:solidFill>
                <a:latin typeface="Franklin Gothic Book"/>
              </a:rPr>
              <a:t>(Russell and Morrison)</a:t>
            </a:r>
            <a:endParaRPr b="0" lang="en-US" sz="13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fine the problem</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llect and analyze backgroun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 preliminary idea</a:t>
            </a:r>
            <a:endParaRPr b="0" lang="en-US" sz="3000" spc="-1" strike="noStrike">
              <a:solidFill>
                <a:srgbClr val="ffffff"/>
              </a:solidFill>
              <a:latin typeface="Arial"/>
            </a:endParaRPr>
          </a:p>
          <a:p>
            <a:pPr marL="419040" indent="-382680">
              <a:spcBef>
                <a:spcPts val="4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the idea’s potential </a:t>
            </a:r>
            <a:r>
              <a:rPr b="0" lang="en-US" sz="1800" spc="-1" strike="noStrike">
                <a:solidFill>
                  <a:srgbClr val="ffffff"/>
                </a:solidFill>
                <a:latin typeface="Arial"/>
              </a:rPr>
              <a:t>(modify if necessary)</a:t>
            </a:r>
            <a:endParaRPr b="0" lang="en-US" sz="18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ek constructive criticism from knowledgeable colleagu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fine the idea to maximize its potential impact on your fie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Summary/Abstract</a:t>
            </a:r>
            <a:endParaRPr b="0" lang="en-US" sz="4600" spc="-1" strike="noStrike">
              <a:solidFill>
                <a:srgbClr val="ffffff"/>
              </a:solidFill>
              <a:latin typeface="Franklin Gothic Book"/>
            </a:endParaRPr>
          </a:p>
        </p:txBody>
      </p:sp>
      <p:sp>
        <p:nvSpPr>
          <p:cNvPr id="27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ost important section of your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may be all that is read and usually the first thing rea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should frame your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clear, brief, and use plain Englis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be written las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st be enthusiastic to develop suppor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bstract/Summary Checklist</a:t>
            </a:r>
            <a:endParaRPr b="0" lang="en-US" sz="4600" spc="-1" strike="noStrike">
              <a:solidFill>
                <a:srgbClr val="ffffff"/>
              </a:solidFill>
              <a:latin typeface="Franklin Gothic Book"/>
            </a:endParaRPr>
          </a:p>
        </p:txBody>
      </p:sp>
      <p:sp>
        <p:nvSpPr>
          <p:cNvPr id="276" name=""/>
          <p:cNvSpPr txBox="1"/>
          <p:nvPr/>
        </p:nvSpPr>
        <p:spPr>
          <a:xfrm>
            <a:off x="457200" y="1295280"/>
            <a:ext cx="8229600" cy="4530960"/>
          </a:xfrm>
          <a:prstGeom prst="rect">
            <a:avLst/>
          </a:prstGeom>
          <a:noFill/>
          <a:ln w="0">
            <a:noFill/>
          </a:ln>
        </p:spPr>
        <p:txBody>
          <a:bodyPr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ngs at the beginning</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the grant applicant</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credibility</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problem</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objectives</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methods</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total cost, funds already obtained, amount requested in the proposal</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brief</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clear</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interesting and enthusiast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600200" y="1219320"/>
            <a:ext cx="5257800" cy="279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Introduction:</a:t>
            </a:r>
            <a:endParaRPr b="0" lang="en-US" sz="4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you describe the qualifications for funding.</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What to put in the Introduction</a:t>
            </a:r>
            <a:endParaRPr b="0" lang="en-US" sz="4100" spc="-1" strike="noStrike">
              <a:solidFill>
                <a:srgbClr val="ffffff"/>
              </a:solidFill>
              <a:latin typeface="Franklin Gothic Book"/>
            </a:endParaRPr>
          </a:p>
        </p:txBody>
      </p:sp>
      <p:sp>
        <p:nvSpPr>
          <p:cNvPr id="279"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how, </a:t>
            </a:r>
            <a:r>
              <a:rPr b="0" lang="en-US" sz="2200" spc="-1" strike="noStrike">
                <a:solidFill>
                  <a:srgbClr val="ffffff"/>
                </a:solidFill>
                <a:latin typeface="Arial"/>
              </a:rPr>
              <a:t>and</a:t>
            </a:r>
            <a:r>
              <a:rPr b="1" lang="en-US" sz="2200" spc="-1" strike="noStrike">
                <a:solidFill>
                  <a:srgbClr val="ffffff"/>
                </a:solidFill>
                <a:latin typeface="Arial"/>
              </a:rPr>
              <a:t> why </a:t>
            </a:r>
            <a:r>
              <a:rPr b="0" lang="en-US" sz="2200" spc="-1" strike="noStrike">
                <a:solidFill>
                  <a:srgbClr val="ffffff"/>
                </a:solidFill>
                <a:latin typeface="Arial"/>
              </a:rPr>
              <a:t>the organization was started</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ement of </a:t>
            </a:r>
            <a:r>
              <a:rPr b="1" lang="en-US" sz="2200" spc="-1" strike="noStrike">
                <a:solidFill>
                  <a:srgbClr val="ffffff"/>
                </a:solidFill>
                <a:latin typeface="Arial"/>
              </a:rPr>
              <a:t>purpose, goals, </a:t>
            </a:r>
            <a:r>
              <a:rPr b="0" lang="en-US" sz="2200" spc="-1" strike="noStrike">
                <a:solidFill>
                  <a:srgbClr val="ffffff"/>
                </a:solidFill>
                <a:latin typeface="Arial"/>
              </a:rPr>
              <a:t>and</a:t>
            </a:r>
            <a:r>
              <a:rPr b="1" lang="en-US" sz="2200" spc="-1" strike="noStrike">
                <a:solidFill>
                  <a:srgbClr val="ffffff"/>
                </a:solidFill>
                <a:latin typeface="Arial"/>
              </a:rPr>
              <a:t> philosophy</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gnificant events in </a:t>
            </a:r>
            <a:r>
              <a:rPr b="1" lang="en-US" sz="2200" spc="-1" strike="noStrike">
                <a:solidFill>
                  <a:srgbClr val="ffffff"/>
                </a:solidFill>
                <a:latin typeface="Arial"/>
              </a:rPr>
              <a:t>history</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 and current activities</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ccomplishments </a:t>
            </a:r>
            <a:r>
              <a:rPr b="0" lang="en-US" sz="2200" spc="-1" strike="noStrike">
                <a:solidFill>
                  <a:srgbClr val="ffffff"/>
                </a:solidFill>
                <a:latin typeface="Arial"/>
              </a:rPr>
              <a:t>and impact</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ze</a:t>
            </a:r>
            <a:r>
              <a:rPr b="0" lang="en-US" sz="2200" spc="-1" strike="noStrike">
                <a:solidFill>
                  <a:srgbClr val="ffffff"/>
                </a:solidFill>
                <a:latin typeface="Arial"/>
              </a:rPr>
              <a:t> and </a:t>
            </a:r>
            <a:r>
              <a:rPr b="1" lang="en-US" sz="2200" spc="-1" strike="noStrike">
                <a:solidFill>
                  <a:srgbClr val="ffffff"/>
                </a:solidFill>
                <a:latin typeface="Arial"/>
              </a:rPr>
              <a:t>characteristics</a:t>
            </a:r>
            <a:r>
              <a:rPr b="0" lang="en-US" sz="2200" spc="-1" strike="noStrike">
                <a:solidFill>
                  <a:srgbClr val="ffffff"/>
                </a:solidFill>
                <a:latin typeface="Arial"/>
              </a:rPr>
              <a:t> of your constituency</a:t>
            </a:r>
            <a:endParaRPr b="0" lang="en-US" sz="2200" spc="-1" strike="noStrike">
              <a:solidFill>
                <a:srgbClr val="ffffff"/>
              </a:solidFill>
              <a:latin typeface="Arial"/>
            </a:endParaRPr>
          </a:p>
        </p:txBody>
      </p:sp>
      <p:sp>
        <p:nvSpPr>
          <p:cNvPr id="280" name=""/>
          <p:cNvSpPr txBox="1"/>
          <p:nvPr/>
        </p:nvSpPr>
        <p:spPr>
          <a:xfrm>
            <a:off x="4267080" y="1600200"/>
            <a:ext cx="3657600" cy="4525920"/>
          </a:xfrm>
          <a:prstGeom prst="rect">
            <a:avLst/>
          </a:prstGeom>
          <a:noFill/>
          <a:ln w="0">
            <a:noFill/>
          </a:ln>
        </p:spPr>
        <p:txBody>
          <a:bodyPr anchor="t">
            <a:normAutofit/>
          </a:bodyPr>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erring agencie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unding source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ults of internal or external evaluation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uotes from letters of support</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vitations received to provide testimony on legislation</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mportant agency publications</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oncept of balance</a:t>
            </a:r>
            <a:endParaRPr b="0" lang="en-US" sz="4600" spc="-1" strike="noStrike">
              <a:solidFill>
                <a:srgbClr val="ffffff"/>
              </a:solidFill>
              <a:latin typeface="Franklin Gothic Book"/>
            </a:endParaRPr>
          </a:p>
        </p:txBody>
      </p:sp>
      <p:sp>
        <p:nvSpPr>
          <p:cNvPr id="282" name=""/>
          <p:cNvSpPr txBox="1"/>
          <p:nvPr/>
        </p:nvSpPr>
        <p:spPr>
          <a:xfrm>
            <a:off x="457200" y="1600200"/>
            <a:ext cx="7772400" cy="4525920"/>
          </a:xfrm>
          <a:prstGeom prst="rect">
            <a:avLst/>
          </a:prstGeom>
          <a:noFill/>
          <a:ln w="0">
            <a:noFill/>
          </a:ln>
        </p:spPr>
        <p:txBody>
          <a:bodyPr anchor="t">
            <a:normAutofit/>
          </a:bodyPr>
          <a:p>
            <a:pPr marL="419040" indent="-382680">
              <a:spcBef>
                <a:spcPts val="9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istics          vs. </a:t>
            </a:r>
            <a:r>
              <a:rPr b="0" lang="en-US" sz="3600" spc="-1" strike="noStrike">
                <a:solidFill>
                  <a:srgbClr val="ffffff"/>
                </a:solidFill>
                <a:latin typeface="Arial"/>
              </a:rPr>
              <a:t>	</a:t>
            </a:r>
            <a:r>
              <a:rPr b="0" lang="en-US" sz="3600" spc="-1" strike="noStrike">
                <a:solidFill>
                  <a:srgbClr val="ffffff"/>
                </a:solidFill>
                <a:latin typeface="Arial"/>
              </a:rPr>
              <a:t>Quotes</a:t>
            </a:r>
            <a:endParaRPr b="0" lang="en-US" sz="3600" spc="-1" strike="noStrike">
              <a:solidFill>
                <a:srgbClr val="ffffff"/>
              </a:solidFill>
              <a:latin typeface="Arial"/>
            </a:endParaRPr>
          </a:p>
          <a:p>
            <a:pPr marL="419040" indent="-382680">
              <a:spcBef>
                <a:spcPts val="9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ent support  vs.  Expert opinion</a:t>
            </a:r>
            <a:endParaRPr b="0" lang="en-US" sz="36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athering Information</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colleagues, advisory board members, students, partner organizations to make one statement of your credibilit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in your staff meeting who might have current credibility information</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statistics and human interest</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your credibilit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credibility evidence of any partners</a:t>
            </a:r>
            <a:endParaRPr b="0" lang="en-US" sz="2800" spc="-1" strike="noStrike">
              <a:solidFill>
                <a:srgbClr val="ffffff"/>
              </a:solidFill>
              <a:latin typeface="Arial"/>
            </a:endParaRPr>
          </a:p>
          <a:p>
            <a:pPr marL="419040" indent="-382680">
              <a:lnSpc>
                <a:spcPct val="9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of support and endorsement (</a:t>
            </a:r>
            <a:r>
              <a:rPr b="0" lang="en-US" sz="2000" spc="-1" strike="noStrike">
                <a:solidFill>
                  <a:srgbClr val="ffffff"/>
                </a:solidFill>
                <a:latin typeface="Arial"/>
              </a:rPr>
              <a:t>make sure the letters are truly supportive, draw powerful quotes from endorsements)</a:t>
            </a:r>
            <a:endParaRPr b="0" lang="en-US" sz="2000" spc="-1" strike="noStrike">
              <a:solidFill>
                <a:srgbClr val="ffffff"/>
              </a:solidFill>
              <a:latin typeface="Arial"/>
            </a:endParaRPr>
          </a:p>
          <a:p>
            <a:pPr marL="419040" indent="-382680">
              <a:lnSpc>
                <a:spcPct val="9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aking the Introduction Readable</a:t>
            </a:r>
            <a:endParaRPr b="0" lang="en-US" sz="41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enmesh reader in the intricacies of organizational structur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dwell on philosophy</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urce may think you’re all thought, no action)</a:t>
            </a:r>
            <a:endParaRPr b="0" lang="en-US" sz="2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list every grant you’ve ever received</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a:t>
            </a:r>
            <a:r>
              <a:rPr b="0" lang="en-US" sz="2000" spc="-1" strike="noStrike">
                <a:solidFill>
                  <a:srgbClr val="ffffff"/>
                </a:solidFill>
                <a:latin typeface="Arial"/>
              </a:rPr>
              <a:t>source may think you’re more interested in getting grants than helping people)</a:t>
            </a:r>
            <a:endParaRPr b="0" lang="en-US" sz="2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put in data</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put in quotes</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Focus on your Credibility for this Funding</a:t>
            </a:r>
            <a:endParaRPr b="0" lang="en-US" sz="4000" spc="-1" strike="noStrike">
              <a:solidFill>
                <a:srgbClr val="ffffff"/>
              </a:solidFill>
              <a:latin typeface="Franklin Gothic Book"/>
            </a:endParaRPr>
          </a:p>
        </p:txBody>
      </p:sp>
      <p:sp>
        <p:nvSpPr>
          <p:cNvPr id="288" name=""/>
          <p:cNvSpPr txBox="1"/>
          <p:nvPr/>
        </p:nvSpPr>
        <p:spPr>
          <a:xfrm>
            <a:off x="457200" y="2819160"/>
            <a:ext cx="8229600" cy="327636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evidenc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ive the reviewer some reason to believe you are capabl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a case of your ability to accomplish your purpose</a:t>
            </a: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Avoid Unsupported Assumptions</a:t>
            </a:r>
            <a:endParaRPr b="0" lang="en-US" sz="40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s nothing of the applicant agenc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cumentation of the community served</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of cause and effect between the relationship and the events presented in the proposal</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such as “we believe” without evidence </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enough evidence to support your position but do not overkill</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minar Goals</a:t>
            </a:r>
            <a:endParaRPr b="0" lang="en-US" sz="4600" spc="-1" strike="noStrike">
              <a:solidFill>
                <a:srgbClr val="ffffff"/>
              </a:solidFill>
              <a:latin typeface="Franklin Gothic Book"/>
            </a:endParaRPr>
          </a:p>
        </p:txBody>
      </p:sp>
      <p:sp>
        <p:nvSpPr>
          <p:cNvPr id="25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arity of goal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development of tangible objectiv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d knowledge in the program area</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tter program evaluation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tter financial management</a:t>
            </a:r>
            <a:endParaRPr b="0" lang="en-US" sz="3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12189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artner Organization?</a:t>
            </a:r>
            <a:endParaRPr b="0" lang="en-US" sz="4600" spc="-1" strike="noStrike">
              <a:solidFill>
                <a:srgbClr val="ffffff"/>
              </a:solidFill>
              <a:latin typeface="Franklin Gothic Book"/>
            </a:endParaRPr>
          </a:p>
        </p:txBody>
      </p:sp>
      <p:sp>
        <p:nvSpPr>
          <p:cNvPr id="292" name=""/>
          <p:cNvSpPr txBox="1"/>
          <p:nvPr/>
        </p:nvSpPr>
        <p:spPr>
          <a:xfrm>
            <a:off x="304920" y="2895120"/>
            <a:ext cx="8229600" cy="266724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evidence of the credibility of the partner organization</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tach a letter from the partner organization guaranteeing its role in the program</a:t>
            </a:r>
            <a:endParaRPr b="0"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9903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Letters of Support and Endorsement</a:t>
            </a:r>
            <a:endParaRPr b="0" lang="en-US" sz="4000" spc="-1" strike="noStrike">
              <a:solidFill>
                <a:srgbClr val="ffffff"/>
              </a:solidFill>
              <a:latin typeface="Franklin Gothic Book"/>
            </a:endParaRPr>
          </a:p>
        </p:txBody>
      </p:sp>
      <p:sp>
        <p:nvSpPr>
          <p:cNvPr id="294" name=""/>
          <p:cNvSpPr txBox="1"/>
          <p:nvPr/>
        </p:nvSpPr>
        <p:spPr>
          <a:xfrm>
            <a:off x="457200" y="2514240"/>
            <a:ext cx="8229600" cy="342900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 the number</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ke sure they are truly supportiv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werful quotes should be drawn from endorsements and introduced into the body of the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hecklist for Proposal Introduction</a:t>
            </a:r>
            <a:endParaRPr b="0" lang="en-US" sz="4100" spc="-1" strike="noStrike">
              <a:solidFill>
                <a:srgbClr val="ffffff"/>
              </a:solidFill>
              <a:latin typeface="Franklin Gothic Book"/>
            </a:endParaRPr>
          </a:p>
        </p:txBody>
      </p:sp>
      <p:sp>
        <p:nvSpPr>
          <p:cNvPr id="296"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establishes who is applying for fund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applicant agency purpose and goal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agency program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clients or constituent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teresting</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free of jargon</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brief</a:t>
            </a:r>
            <a:endParaRPr b="0" lang="en-US" sz="2400" spc="-1" strike="noStrike">
              <a:solidFill>
                <a:srgbClr val="ffffff"/>
              </a:solidFill>
              <a:latin typeface="Arial"/>
            </a:endParaRPr>
          </a:p>
        </p:txBody>
      </p:sp>
      <p:sp>
        <p:nvSpPr>
          <p:cNvPr id="297"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evidence of accomplishment</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statistics to support credibility</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statements and/or endorsements to support credibility</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credibility in program area in which funds are sought</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ds logically to problem statement</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91404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The Problem Statement or Needs Assessment</a:t>
            </a:r>
            <a:endParaRPr b="0" lang="en-US" sz="4100" spc="-1" strike="noStrike">
              <a:solidFill>
                <a:srgbClr val="ffffff"/>
              </a:solidFill>
              <a:latin typeface="Franklin Gothic Book"/>
            </a:endParaRPr>
          </a:p>
        </p:txBody>
      </p:sp>
      <p:sp>
        <p:nvSpPr>
          <p:cNvPr id="299" name=""/>
          <p:cNvSpPr txBox="1"/>
          <p:nvPr/>
        </p:nvSpPr>
        <p:spPr>
          <a:xfrm>
            <a:off x="533520" y="2743200"/>
            <a:ext cx="8229600" cy="220968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blem statement or needs assessment is the most critical part of your plan.  It represents the reason behind the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Basic requirements of problem</a:t>
            </a:r>
            <a:endParaRPr b="0" lang="en-US" sz="4100" spc="-1" strike="noStrike">
              <a:solidFill>
                <a:srgbClr val="ffffff"/>
              </a:solidFill>
              <a:latin typeface="Franklin Gothic Book"/>
            </a:endParaRPr>
          </a:p>
        </p:txBody>
      </p:sp>
      <p:sp>
        <p:nvSpPr>
          <p:cNvPr id="301" name=""/>
          <p:cNvSpPr txBox="1"/>
          <p:nvPr/>
        </p:nvSpPr>
        <p:spPr>
          <a:xfrm>
            <a:off x="457200" y="1447920"/>
            <a:ext cx="8229600" cy="4952880"/>
          </a:xfrm>
          <a:prstGeom prst="rect">
            <a:avLst/>
          </a:prstGeom>
          <a:noFill/>
          <a:ln w="0">
            <a:noFill/>
          </a:ln>
        </p:spPr>
        <p:txBody>
          <a:bodyPr anchor="t">
            <a:normAutofit/>
          </a:bodyPr>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ly related to the purposes and goals of your organization</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evidence drawn from your experiences, from statistics provided by authoritative sources and/or from the testimony of persons and organizations known to be knowledgeable about the situation</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able dimensions (can be done over the course of the grant)</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d in terms of clients or constituents rather than the needs or problems of OSU or department</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Documenting the Problem/Needs Statement</a:t>
            </a:r>
            <a:endParaRPr b="0" lang="en-US" sz="41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ortant to differentiate between a situation of national scope and the situation as it exists in your community.</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lished record of hearings before congressional committees are a good source and often little use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t it in community context</a:t>
            </a:r>
            <a:endParaRPr b="0" lang="en-US" sz="3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hecklist for Problem/Needs Statement</a:t>
            </a:r>
            <a:endParaRPr b="0" lang="en-US" sz="4100" spc="-1" strike="noStrike">
              <a:solidFill>
                <a:srgbClr val="ffffff"/>
              </a:solidFill>
              <a:latin typeface="Franklin Gothic Book"/>
            </a:endParaRPr>
          </a:p>
        </p:txBody>
      </p:sp>
      <p:sp>
        <p:nvSpPr>
          <p:cNvPr id="305" name=""/>
          <p:cNvSpPr txBox="1"/>
          <p:nvPr/>
        </p:nvSpPr>
        <p:spPr>
          <a:xfrm>
            <a:off x="457200" y="1600200"/>
            <a:ext cx="3657600" cy="4525920"/>
          </a:xfrm>
          <a:prstGeom prst="rect">
            <a:avLst/>
          </a:prstGeom>
          <a:noFill/>
          <a:ln w="0">
            <a:noFill/>
          </a:ln>
        </p:spPr>
        <p:txBody>
          <a:bodyPr anchor="t">
            <a:normAutofit/>
          </a:bodyPr>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ates to purposes and goals of organization</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of reasonable dimension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supported by statistical evidence</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stated in terms of clients or beneficiarie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not the “lack of a method” (unless the method is infallible)</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n’t make assumption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n’t use jargon</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interesting to read</a:t>
            </a:r>
            <a:endParaRPr b="0" lang="en-US" sz="2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hat are Outcomes?</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indicate the extent to which methods and strategies result in the desired changes in people and the community. </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s do not measure inputs, processes, or methods. Instead, they measure the extent to which a strategy is reaching its objective." </a:t>
            </a:r>
            <a:r>
              <a:rPr b="0" lang="en-US" sz="2400" spc="-1" strike="noStrike">
                <a:solidFill>
                  <a:srgbClr val="000000"/>
                </a:solidFill>
                <a:latin typeface="Arial"/>
              </a:rPr>
              <a:t> </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utcomes/Objectives</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useful, outcomes should tell...  </a:t>
            </a:r>
            <a:endParaRPr b="0" lang="en-US" sz="2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who</a:t>
            </a:r>
            <a:r>
              <a:rPr b="0" lang="en-US" sz="2400" spc="-1" strike="noStrike">
                <a:solidFill>
                  <a:srgbClr val="ffffff"/>
                </a:solidFill>
                <a:latin typeface="Arial"/>
              </a:rPr>
              <a:t> </a:t>
            </a:r>
            <a:r>
              <a:rPr b="0" lang="en-US" sz="2000" spc="-1" strike="noStrike">
                <a:solidFill>
                  <a:srgbClr val="ffffff"/>
                </a:solidFill>
                <a:latin typeface="Arial"/>
              </a:rPr>
              <a:t>(individual, neighborhood, target population)</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is doing </a:t>
            </a:r>
            <a:r>
              <a:rPr b="1" lang="en-US" sz="2400" spc="-1" strike="noStrike">
                <a:solidFill>
                  <a:srgbClr val="f07f09"/>
                </a:solidFill>
                <a:latin typeface="Arial"/>
              </a:rPr>
              <a:t>what</a:t>
            </a:r>
            <a:r>
              <a:rPr b="0" lang="en-US" sz="2400" spc="-1" strike="noStrike">
                <a:solidFill>
                  <a:srgbClr val="ffffff"/>
                </a:solidFill>
                <a:latin typeface="Arial"/>
              </a:rPr>
              <a:t> </a:t>
            </a:r>
            <a:r>
              <a:rPr b="0" lang="en-US" sz="2000" spc="-1" strike="noStrike">
                <a:solidFill>
                  <a:srgbClr val="ffffff"/>
                </a:solidFill>
                <a:latin typeface="Arial"/>
              </a:rPr>
              <a:t>(change in condition, behavior)</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when</a:t>
            </a:r>
            <a:r>
              <a:rPr b="0" lang="en-US" sz="2400" spc="-1" strike="noStrike">
                <a:solidFill>
                  <a:srgbClr val="ffffff"/>
                </a:solidFill>
                <a:latin typeface="Arial"/>
              </a:rPr>
              <a:t> </a:t>
            </a:r>
            <a:r>
              <a:rPr b="0" lang="en-US" sz="2000" spc="-1" strike="noStrike">
                <a:solidFill>
                  <a:srgbClr val="ffffff"/>
                </a:solidFill>
                <a:latin typeface="Arial"/>
              </a:rPr>
              <a:t>(change occurs by this specific d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how</a:t>
            </a:r>
            <a:r>
              <a:rPr b="0" lang="en-US" sz="2400" spc="-1" strike="noStrike">
                <a:solidFill>
                  <a:srgbClr val="f07f09"/>
                </a:solidFill>
                <a:latin typeface="Arial"/>
              </a:rPr>
              <a:t> </a:t>
            </a:r>
            <a:r>
              <a:rPr b="0" lang="en-US" sz="2400" spc="-1" strike="noStrike">
                <a:solidFill>
                  <a:srgbClr val="ffffff"/>
                </a:solidFill>
                <a:latin typeface="Arial"/>
              </a:rPr>
              <a:t>that change is measured </a:t>
            </a:r>
            <a:r>
              <a:rPr b="0" lang="en-US" sz="2000" spc="-1" strike="noStrike">
                <a:solidFill>
                  <a:srgbClr val="ffffff"/>
                </a:solidFill>
                <a:latin typeface="Arial"/>
              </a:rPr>
              <a:t>(what data shows changed condition or behavior</a:t>
            </a:r>
            <a:r>
              <a:rPr b="0" lang="en-US" sz="2400" spc="-1" strike="noStrike">
                <a:solidFill>
                  <a:srgbClr val="ffffff"/>
                </a:solidFill>
                <a:latin typeface="Arial"/>
              </a:rPr>
              <a:t>)</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Questions to Consider</a:t>
            </a:r>
            <a:endParaRPr b="0" lang="en-US" sz="4600" spc="-1" strike="noStrike">
              <a:solidFill>
                <a:srgbClr val="ffffff"/>
              </a:solidFill>
              <a:latin typeface="Franklin Gothic Book"/>
            </a:endParaRPr>
          </a:p>
        </p:txBody>
      </p:sp>
      <p:sp>
        <p:nvSpPr>
          <p:cNvPr id="312"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ctivities will you undertake to solve the problem or address the issue?</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your proposed activities the best way--most effective, cost efficient, most equitable--to solve this problem or address this issue?</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other potential solutions have you considered? Why did you reject those</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lution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ill result from your activitie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Proposal Development Components</a:t>
            </a:r>
            <a:endParaRPr b="0" lang="en-US" sz="3600" spc="-1" strike="noStrike">
              <a:solidFill>
                <a:srgbClr val="ffffff"/>
              </a:solidFill>
              <a:latin typeface="Franklin Gothic Book"/>
            </a:endParaRPr>
          </a:p>
        </p:txBody>
      </p:sp>
      <p:sp>
        <p:nvSpPr>
          <p:cNvPr id="25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bstract: </a:t>
            </a:r>
            <a:r>
              <a:rPr b="0" lang="en-US" sz="1400" spc="-1" strike="noStrike">
                <a:solidFill>
                  <a:srgbClr val="ffffff"/>
                </a:solidFill>
                <a:latin typeface="Arial"/>
              </a:rPr>
              <a:t>Clearly and Concisely summarizes the request</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Introduction: </a:t>
            </a:r>
            <a:r>
              <a:rPr b="0" lang="en-US" sz="1400" spc="-1" strike="noStrike">
                <a:solidFill>
                  <a:srgbClr val="ffffff"/>
                </a:solidFill>
                <a:latin typeface="Arial"/>
              </a:rPr>
              <a:t>Describes the agency’s qualifications or “credibility”</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 Problem Statement/Needs Assessment: </a:t>
            </a:r>
            <a:r>
              <a:rPr b="0" lang="en-US" sz="1400" spc="-1" strike="noStrike">
                <a:solidFill>
                  <a:srgbClr val="ffffff"/>
                </a:solidFill>
                <a:latin typeface="Arial"/>
              </a:rPr>
              <a:t>Documents the need to be met or problems to be solved by the proposed funding</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  Objectives: </a:t>
            </a:r>
            <a:r>
              <a:rPr b="0" lang="en-US" sz="1400" spc="-1" strike="noStrike">
                <a:solidFill>
                  <a:srgbClr val="ffffff"/>
                </a:solidFill>
                <a:latin typeface="Arial"/>
              </a:rPr>
              <a:t>Establishes the benefits of the funding in measurable terms</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thods: </a:t>
            </a:r>
            <a:r>
              <a:rPr b="0" lang="en-US" sz="1400" spc="-1" strike="noStrike">
                <a:solidFill>
                  <a:srgbClr val="ffffff"/>
                </a:solidFill>
                <a:latin typeface="Arial"/>
              </a:rPr>
              <a:t>Describes the activities to be employed to achieve the desired results</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Evaluation: </a:t>
            </a:r>
            <a:r>
              <a:rPr b="0" lang="en-US" sz="1400" spc="-1" strike="noStrike">
                <a:solidFill>
                  <a:srgbClr val="ffffff"/>
                </a:solidFill>
                <a:latin typeface="Arial"/>
              </a:rPr>
              <a:t>Presents a plan for determining the degree to which objectives are met and methods are followed</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I.  Budget: </a:t>
            </a:r>
            <a:r>
              <a:rPr b="0" lang="en-US" sz="1400" spc="-1" strike="noStrike">
                <a:solidFill>
                  <a:srgbClr val="ffffff"/>
                </a:solidFill>
                <a:latin typeface="Arial"/>
              </a:rPr>
              <a:t>Clearly delineates costs to be met by the funding source and those to be provided by the applicant or other parties</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5684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Questions cont.</a:t>
            </a:r>
            <a:endParaRPr b="0" lang="en-US" sz="4600" spc="-1" strike="noStrike">
              <a:solidFill>
                <a:srgbClr val="ffffff"/>
              </a:solidFill>
              <a:latin typeface="Franklin Gothic Book"/>
            </a:endParaRPr>
          </a:p>
        </p:txBody>
      </p:sp>
      <p:sp>
        <p:nvSpPr>
          <p:cNvPr id="314" name=""/>
          <p:cNvSpPr txBox="1"/>
          <p:nvPr/>
        </p:nvSpPr>
        <p:spPr>
          <a:xfrm>
            <a:off x="685800" y="1676520"/>
            <a:ext cx="7772400" cy="4572000"/>
          </a:xfrm>
          <a:prstGeom prst="rect">
            <a:avLst/>
          </a:prstGeom>
          <a:noFill/>
          <a:ln w="0">
            <a:noFill/>
          </a:ln>
        </p:spPr>
        <p:txBody>
          <a:bodyPr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plan of work over the life of the proposed project? What will be done and when?</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he proposed work be broken down into tasks and sub-tasks? How do the tasks and sub-tasks relate to each other?</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ethods or means will you use to carry out the tasks and sub-tasks? Why have you chosen these methods and means of carrying out your activiti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schedule of work or project time 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Process (task or behavioral) Objectives</a:t>
            </a:r>
            <a:endParaRPr b="0" lang="en-US" sz="3600" spc="-1" strike="noStrike">
              <a:solidFill>
                <a:srgbClr val="ffffff"/>
              </a:solidFill>
              <a:latin typeface="Franklin Gothic Book"/>
            </a:endParaRPr>
          </a:p>
        </p:txBody>
      </p:sp>
      <p:sp>
        <p:nvSpPr>
          <p:cNvPr id="31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o often, grant seekers confuse </a:t>
            </a:r>
            <a:r>
              <a:rPr b="0" i="1" lang="en-US" sz="3000" spc="-1" strike="noStrike">
                <a:solidFill>
                  <a:srgbClr val="ffffff"/>
                </a:solidFill>
                <a:latin typeface="Arial"/>
              </a:rPr>
              <a:t>means </a:t>
            </a:r>
            <a:r>
              <a:rPr b="0" lang="en-US" sz="3000" spc="-1" strike="noStrike">
                <a:solidFill>
                  <a:srgbClr val="ffffff"/>
                </a:solidFill>
                <a:latin typeface="Arial"/>
              </a:rPr>
              <a:t>and</a:t>
            </a:r>
            <a:r>
              <a:rPr b="0" i="1" lang="en-US" sz="3000" spc="-1" strike="noStrike">
                <a:solidFill>
                  <a:srgbClr val="ffffff"/>
                </a:solidFill>
                <a:latin typeface="Arial"/>
              </a:rPr>
              <a:t> end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eans are method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nds are objectives.</a:t>
            </a:r>
            <a:endParaRPr b="0" lang="en-US" sz="3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ans and Ends</a:t>
            </a:r>
            <a:endParaRPr b="0" lang="en-US" sz="4600" spc="-1" strike="noStrike">
              <a:solidFill>
                <a:srgbClr val="ffffff"/>
              </a:solidFill>
              <a:latin typeface="Franklin Gothic Book"/>
            </a:endParaRPr>
          </a:p>
        </p:txBody>
      </p:sp>
      <p:sp>
        <p:nvSpPr>
          <p:cNvPr id="318" name=""/>
          <p:cNvSpPr txBox="1"/>
          <p:nvPr/>
        </p:nvSpPr>
        <p:spPr>
          <a:xfrm>
            <a:off x="380520" y="1523880"/>
            <a:ext cx="403884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s begin with words lik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provid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establish</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create</a:t>
            </a:r>
            <a:endParaRPr b="0" lang="en-US" sz="2600" spc="-1" strike="noStrike">
              <a:solidFill>
                <a:srgbClr val="ffffff"/>
              </a:solidFill>
              <a:latin typeface="Arial"/>
            </a:endParaRPr>
          </a:p>
        </p:txBody>
      </p:sp>
      <p:sp>
        <p:nvSpPr>
          <p:cNvPr id="319"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ives start with words lik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increas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ecrease </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reduce</a:t>
            </a:r>
            <a:endParaRPr b="0" lang="en-US" sz="2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Objectives</a:t>
            </a:r>
            <a:endParaRPr b="0" lang="en-US" sz="4600" spc="-1" strike="noStrike">
              <a:solidFill>
                <a:srgbClr val="ffffff"/>
              </a:solidFill>
              <a:latin typeface="Franklin Gothic Book"/>
            </a:endParaRPr>
          </a:p>
        </p:txBody>
      </p:sp>
      <p:sp>
        <p:nvSpPr>
          <p:cNvPr id="32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ibes problem-related outcomes of your program</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describe your method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fines the population serve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tes the time when the objectives will be me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ibes the objectives in numerical terms, if at all possible.</a:t>
            </a:r>
            <a:endParaRPr b="0"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thods/Narrative</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the needs and problems have been described and objectives stated, the next step is to spell out the methods by which you propose to achieve those objectiv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erms methods, methodology, activities, procedures, or strategies may be used (describes the steps to be taken to achieve the desired results.)</a:t>
            </a:r>
            <a:endParaRPr b="0" lang="en-US" sz="3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hods/Narrative Description</a:t>
            </a:r>
            <a:endParaRPr b="0" lang="en-US" sz="4100" spc="-1" strike="noStrike">
              <a:solidFill>
                <a:srgbClr val="ffffff"/>
              </a:solidFill>
              <a:latin typeface="Franklin Gothic Book"/>
            </a:endParaRPr>
          </a:p>
        </p:txBody>
      </p:sp>
      <p:sp>
        <p:nvSpPr>
          <p:cNvPr id="32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precisely:</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you propose to do</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you propose to do i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results you expect to obtain and what they will mean to the overall projec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might go wrong</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lternative approaches will be used to cope with potential problem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hods/Narrative Description</a:t>
            </a:r>
            <a:endParaRPr b="0" lang="en-US" sz="4100" spc="-1" strike="noStrike">
              <a:solidFill>
                <a:srgbClr val="ffffff"/>
              </a:solidFill>
              <a:latin typeface="Franklin Gothic Book"/>
            </a:endParaRPr>
          </a:p>
        </p:txBody>
      </p:sp>
      <p:sp>
        <p:nvSpPr>
          <p:cNvPr id="32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e the narrative according to the specific objectives, with one section for eac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ote an equal number of pages to eac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an organized presentation forma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ver exceed the number of pages estimated for this sect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Methods</a:t>
            </a:r>
            <a:endParaRPr b="0" lang="en-US" sz="4600" spc="-1" strike="noStrike">
              <a:solidFill>
                <a:srgbClr val="ffffff"/>
              </a:solidFill>
              <a:latin typeface="Franklin Gothic Book"/>
            </a:endParaRPr>
          </a:p>
        </p:txBody>
      </p:sp>
      <p:sp>
        <p:nvSpPr>
          <p:cNvPr id="329"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ws naturally from problems and objectiv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early describes program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s reasons for selection of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sequence of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staffing of program</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clients and client selection</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ents a reasonable scope of activities that can be accomplished within the time allotted for program and within the resources of the applicant</a:t>
            </a:r>
            <a:endParaRPr b="0" lang="en-US" sz="2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utcome Evaluation</a:t>
            </a:r>
            <a:endParaRPr b="0" lang="en-US" sz="4600" spc="-1" strike="noStrike">
              <a:solidFill>
                <a:srgbClr val="ffffff"/>
              </a:solidFill>
              <a:latin typeface="Franklin Gothic Book"/>
            </a:endParaRPr>
          </a:p>
        </p:txBody>
      </p:sp>
      <p:sp>
        <p:nvSpPr>
          <p:cNvPr id="33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successful evaluation uses procedures to determin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Extent the program has achieved its stated objectiv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Extent the accomplishment of objectives can be attributed to program</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hy Evaluation is Important</a:t>
            </a:r>
            <a:endParaRPr b="0" lang="en-US" sz="4600" spc="-1" strike="noStrike">
              <a:solidFill>
                <a:srgbClr val="ffffff"/>
              </a:solidFill>
              <a:latin typeface="Franklin Gothic Book"/>
            </a:endParaRPr>
          </a:p>
        </p:txBody>
      </p:sp>
      <p:sp>
        <p:nvSpPr>
          <p:cNvPr id="33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Directs funding source on how to evaluate your program</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ces you to examine the clarity of objective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Process evaluation allow you to achieve economies in the conduct of your program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an provide administrators with data for program decision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rection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Can use the data to motivate supporter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Reassures funding sources of the diligence and sincerity of applicant</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Powerful instrument for public relations program</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oposals and Funding</a:t>
            </a:r>
            <a:endParaRPr b="0" lang="en-US" sz="46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of the proposal is to secure outside funding</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ecessary to understand the funding source</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contact and organizational credibility are essential</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grants are made to organizations with which there has been prior contact – some meeting, or referral</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Who Should Conduct the Evaluation</a:t>
            </a:r>
            <a:endParaRPr b="0" lang="en-US" sz="3600" spc="-1" strike="noStrike">
              <a:solidFill>
                <a:srgbClr val="ffffff"/>
              </a:solidFill>
              <a:latin typeface="Franklin Gothic Book"/>
            </a:endParaRPr>
          </a:p>
        </p:txBody>
      </p:sp>
      <p:sp>
        <p:nvSpPr>
          <p:cNvPr id="33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ending on the requirements of the funding source, evaluation may be external, internal or both.</a:t>
            </a:r>
            <a:endParaRPr b="0" lang="en-US" sz="3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siderations If External</a:t>
            </a:r>
            <a:endParaRPr b="0" lang="en-US" sz="4600" spc="-1" strike="noStrike">
              <a:solidFill>
                <a:srgbClr val="ffffff"/>
              </a:solidFill>
              <a:latin typeface="Franklin Gothic Book"/>
            </a:endParaRPr>
          </a:p>
        </p:txBody>
      </p:sp>
      <p:sp>
        <p:nvSpPr>
          <p:cNvPr id="33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t</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or assist in the design of the program?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the evaluator have a reputation that will enhance the credibility of the application?</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or be likely to align himself or herself, for better or worse, with the management who is paying the bill or with the staff whose work is being assessed?</a:t>
            </a:r>
            <a:endParaRPr b="0" lang="en-US" sz="3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siderations if Internal</a:t>
            </a:r>
            <a:endParaRPr b="0" lang="en-US" sz="4600" spc="-1" strike="noStrike">
              <a:solidFill>
                <a:srgbClr val="ffffff"/>
              </a:solidFill>
              <a:latin typeface="Franklin Gothic Book"/>
            </a:endParaRPr>
          </a:p>
        </p:txBody>
      </p:sp>
      <p:sp>
        <p:nvSpPr>
          <p:cNvPr id="33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anyone on staff competent in the area of evaluation?</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ir responsibilities for evaluation detract from staff’s ability to perform other required duti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ion threaten staff and reduce the accuracy of the evaluation?</a:t>
            </a:r>
            <a:endParaRPr b="0" lang="en-US" sz="3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utions</a:t>
            </a:r>
            <a:endParaRPr b="0" lang="en-US" sz="4600" spc="-1" strike="noStrike">
              <a:solidFill>
                <a:srgbClr val="ffffff"/>
              </a:solidFill>
              <a:latin typeface="Franklin Gothic Book"/>
            </a:endParaRPr>
          </a:p>
        </p:txBody>
      </p:sp>
      <p:sp>
        <p:nvSpPr>
          <p:cNvPr id="34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Some nebulous process is mentioned:</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on will be afforded by (1) weekly conference of the multidisciplinary team: (2) maintenance of comprehensive records and explicit documentations</a:t>
            </a:r>
            <a:endParaRPr b="0" lang="en-US" sz="2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Some expert will take care of it all:</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ssure the success of this project, Dr. Jones of the University of Siberia will be employed to design an evaluation of the program.</a:t>
            </a:r>
            <a:endParaRPr b="0" lang="en-US" sz="2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3.  Brevity is carried to an absurd degree:</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valuation consists of the ongoing review of the data derived from the survey and examination obtained at the initial interview so that both client and program needs can be determined.</a:t>
            </a:r>
            <a:endParaRPr b="0"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esigning the Evaluation</a:t>
            </a:r>
            <a:endParaRPr b="0" lang="en-US" sz="4600" spc="-1" strike="noStrike">
              <a:solidFill>
                <a:srgbClr val="ffffff"/>
              </a:solidFill>
              <a:latin typeface="Franklin Gothic Book"/>
            </a:endParaRPr>
          </a:p>
        </p:txBody>
      </p:sp>
      <p:sp>
        <p:nvSpPr>
          <p:cNvPr id="34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4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y program objectives </a:t>
            </a:r>
            <a:r>
              <a:rPr b="0" lang="en-US" sz="1800" spc="-1" strike="noStrike">
                <a:solidFill>
                  <a:srgbClr val="ffffff"/>
                </a:solidFill>
                <a:latin typeface="Arial"/>
              </a:rPr>
              <a:t>(clear and measurable)</a:t>
            </a:r>
            <a:endParaRPr b="0" lang="en-US" sz="1800" spc="-1" strike="noStrike">
              <a:solidFill>
                <a:srgbClr val="ffffff"/>
              </a:solidFill>
              <a:latin typeface="Arial"/>
            </a:endParaRPr>
          </a:p>
          <a:p>
            <a:pPr marL="419040" indent="-382680">
              <a:lnSpc>
                <a:spcPct val="80000"/>
              </a:lnSpc>
              <a:spcBef>
                <a:spcPts val="4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potential audience for the evaluation:  </a:t>
            </a:r>
            <a:r>
              <a:rPr b="0" lang="en-US" sz="1800" spc="-1" strike="noStrike">
                <a:solidFill>
                  <a:srgbClr val="ffffff"/>
                </a:solidFill>
                <a:latin typeface="Arial"/>
              </a:rPr>
              <a:t>(inside organization?  Outside organization?)</a:t>
            </a:r>
            <a:endParaRPr b="0" lang="en-US" sz="18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you conduct a process evaluation, a product evaluation, or both?</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7f09"/>
                </a:solidFill>
                <a:latin typeface="Arial"/>
              </a:rPr>
              <a:t>4</a:t>
            </a:r>
            <a:r>
              <a:rPr b="0" lang="en-US" sz="2400" spc="-1" strike="noStrike">
                <a:solidFill>
                  <a:srgbClr val="ffffff"/>
                </a:solidFill>
                <a:latin typeface="Arial"/>
              </a:rPr>
              <a:t>.  Who will conduct the evaluation?</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the evaluation include an analysis of cost-benefit or cost effectiveness?</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evaluation data be collected?</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the evaluation data be analyzed?</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the evaluative information be reported?</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Evaluation</a:t>
            </a:r>
            <a:endParaRPr b="0" lang="en-US" sz="4600" spc="-1" strike="noStrike">
              <a:solidFill>
                <a:srgbClr val="ffffff"/>
              </a:solidFill>
              <a:latin typeface="Franklin Gothic Book"/>
            </a:endParaRPr>
          </a:p>
        </p:txBody>
      </p:sp>
      <p:sp>
        <p:nvSpPr>
          <p:cNvPr id="345"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product and proces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s who will be performing evaluation and how evaluators will be selected</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evaluation criteria</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data gathering method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s any test instruments or questionnaires to be used</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the process of data analysi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s how evaluation will be used for program improvement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evaluation reports to be produced</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Developing the Proposal Business Plan - Overview</a:t>
            </a:r>
            <a:endParaRPr b="0" lang="en-US" sz="4100" spc="-1" strike="noStrike">
              <a:solidFill>
                <a:srgbClr val="ffffff"/>
              </a:solidFill>
              <a:latin typeface="Franklin Gothic Book"/>
            </a:endParaRPr>
          </a:p>
        </p:txBody>
      </p:sp>
      <p:sp>
        <p:nvSpPr>
          <p:cNvPr id="34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paring an Effective Budge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cognizing that the Proposal Business Plan is a Contrac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the Budget Template from the Web Sit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ing Adjustments If Your Budget Is Too High</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ing a Budget Explanation</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ing a Cost Share Budge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Typical Cost Share Budget Categorie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eparing an Effective Budget</a:t>
            </a:r>
            <a:endParaRPr b="0" lang="en-US" sz="4600" spc="-1" strike="noStrike">
              <a:solidFill>
                <a:srgbClr val="ffffff"/>
              </a:solidFill>
              <a:latin typeface="Franklin Gothic Book"/>
            </a:endParaRPr>
          </a:p>
        </p:txBody>
      </p:sp>
      <p:sp>
        <p:nvSpPr>
          <p:cNvPr id="349" name=""/>
          <p:cNvSpPr txBox="1"/>
          <p:nvPr/>
        </p:nvSpPr>
        <p:spPr>
          <a:xfrm>
            <a:off x="380880" y="1523880"/>
            <a:ext cx="8229600" cy="4530960"/>
          </a:xfrm>
          <a:prstGeom prst="rect">
            <a:avLst/>
          </a:prstGeom>
          <a:noFill/>
          <a:ln w="0">
            <a:noFill/>
          </a:ln>
        </p:spPr>
        <p:txBody>
          <a:bodyPr anchor="t">
            <a:normAutofit/>
          </a:bodyPr>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the proposal guideline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the proposal content and activities described therein.</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your universities procedures for salary payments, fringe benefit charges, facilities &amp; administration charges (a.k.a., indirect costs, IDC, or overhead) – or work with someone who does know.</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 fully-costed budget.</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Recognizing that the Proposal Business Plan is a Contract</a:t>
            </a:r>
            <a:endParaRPr b="0" lang="en-US" sz="4100" spc="-1" strike="noStrike">
              <a:solidFill>
                <a:srgbClr val="ffffff"/>
              </a:solidFill>
              <a:latin typeface="Franklin Gothic Book"/>
            </a:endParaRPr>
          </a:p>
        </p:txBody>
      </p:sp>
      <p:sp>
        <p:nvSpPr>
          <p:cNvPr id="351"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rrative and the business elements of the proposal, including the proposal, must be consistent with each other.</a:t>
            </a:r>
            <a:endParaRPr b="0" lang="en-US" sz="2800" spc="-1" strike="noStrike">
              <a:solidFill>
                <a:srgbClr val="ffffff"/>
              </a:solidFill>
              <a:latin typeface="Arial"/>
            </a:endParaRPr>
          </a:p>
          <a:p>
            <a:pPr marL="419040" indent="-382680">
              <a:lnSpc>
                <a:spcPct val="80000"/>
              </a:lnSpc>
              <a:spcBef>
                <a:spcPts val="700"/>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s must be developed by a consistent standard of other proposal submissions of the institution, which is increasingly important with the implementation of Cost Accounting Standards (CAS.)</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ff member assisting with the budget should be provided copies of the narrative and subsequent rev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Using the Budget Template from the Web Site</a:t>
            </a:r>
            <a:endParaRPr b="0" lang="en-US" sz="4100" spc="-1" strike="noStrike">
              <a:solidFill>
                <a:srgbClr val="ffffff"/>
              </a:solidFill>
              <a:latin typeface="Franklin Gothic Book"/>
            </a:endParaRPr>
          </a:p>
        </p:txBody>
      </p:sp>
      <p:sp>
        <p:nvSpPr>
          <p:cNvPr id="35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www.okstate.edu/education/research/researchforms.htm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b 1 is the multi-page budget workshee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b 2 is instru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4475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overnment Sources</a:t>
            </a:r>
            <a:endParaRPr b="0" lang="en-US" sz="4600" spc="-1" strike="noStrike">
              <a:solidFill>
                <a:srgbClr val="ffffff"/>
              </a:solidFill>
              <a:latin typeface="Franklin Gothic Book"/>
            </a:endParaRPr>
          </a:p>
        </p:txBody>
      </p:sp>
      <p:sp>
        <p:nvSpPr>
          <p:cNvPr id="262" name=""/>
          <p:cNvSpPr txBox="1"/>
          <p:nvPr/>
        </p:nvSpPr>
        <p:spPr>
          <a:xfrm>
            <a:off x="457200" y="2590920"/>
            <a:ext cx="8229600" cy="320040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llow the instruction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for clarification if neede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for a copy of the score shee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aking Adjustments If Your Budget Is Too High</a:t>
            </a:r>
            <a:endParaRPr b="0" lang="en-US" sz="4100" spc="-1" strike="noStrike">
              <a:solidFill>
                <a:srgbClr val="ffffff"/>
              </a:solidFill>
              <a:latin typeface="Franklin Gothic Book"/>
            </a:endParaRPr>
          </a:p>
        </p:txBody>
      </p:sp>
      <p:sp>
        <p:nvSpPr>
          <p:cNvPr id="355"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he scope of the work and adjust the corresponding budget downward.</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eak up large programs into smaller, more fundable project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st Share:  Identify supplemental funding sources and project partners.  Get sponsors for programs and events.  Determine if university funding is availabl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t agency to pre-approve a higher total funding amount.  Get this in writing – email will suffic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riting a Budget Explanation</a:t>
            </a:r>
            <a:endParaRPr b="0" lang="en-US" sz="4600" spc="-1" strike="noStrike">
              <a:solidFill>
                <a:srgbClr val="ffffff"/>
              </a:solidFill>
              <a:latin typeface="Franklin Gothic Book"/>
            </a:endParaRPr>
          </a:p>
        </p:txBody>
      </p:sp>
      <p:sp>
        <p:nvSpPr>
          <p:cNvPr id="35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parate from budget justification in the narrative, but consisten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basis of salary charges.  Salary rate can not exceed usual rate, but annual increase can be projected.  List effort level and corresponding time period.</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fringe benefits are estimated, for example, historical of “negotiated” rates for various employee classe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other direct costs and relationship to proposed activities, for example, printing and postage costs for survey research of “x” subjects.</a:t>
            </a:r>
            <a:endParaRPr b="0" lang="en-US" sz="2600" spc="-1" strike="noStrike">
              <a:solidFill>
                <a:srgbClr val="ffffff"/>
              </a:solidFill>
              <a:latin typeface="Arial"/>
            </a:endParaRPr>
          </a:p>
          <a:p>
            <a:pPr marL="419040" indent="-382680">
              <a:lnSpc>
                <a:spcPct val="7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reating a Cost Share Budget</a:t>
            </a:r>
            <a:endParaRPr b="0" lang="en-US" sz="4600" spc="-1" strike="noStrike">
              <a:solidFill>
                <a:srgbClr val="ffffff"/>
              </a:solidFill>
              <a:latin typeface="Franklin Gothic Book"/>
            </a:endParaRPr>
          </a:p>
        </p:txBody>
      </p:sp>
      <p:sp>
        <p:nvSpPr>
          <p:cNvPr id="359" name=""/>
          <p:cNvSpPr txBox="1"/>
          <p:nvPr/>
        </p:nvSpPr>
        <p:spPr>
          <a:xfrm>
            <a:off x="456840" y="1600200"/>
            <a:ext cx="746748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ching funds from non-federal source for changes necessary to meet project objectives.</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allowable costs under the agency guidelines and consistent with the institution’s principles for cost for cost share valuation.</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incurred during the award period.</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verifiable from the university’s records.</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part contributions and volunteer services are allowable as cost share in some instanc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Understanding Typical Cost Share Budget Categories</a:t>
            </a:r>
            <a:endParaRPr b="0" lang="en-US" sz="4100" spc="-1" strike="noStrike">
              <a:solidFill>
                <a:srgbClr val="ffffff"/>
              </a:solidFill>
              <a:latin typeface="Franklin Gothic Book"/>
            </a:endParaRPr>
          </a:p>
        </p:txBody>
      </p:sp>
      <p:sp>
        <p:nvSpPr>
          <p:cNvPr id="36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lary charges associated with release time from academic duties which is utilized for proposed activities and which is subsequently documented throughout the award period.</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inge benefit charges associated with the above salarie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direct cost charges to be supported from university or other fund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p;A associated with above categorie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p;A waived on funds requested from the sponso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uture Funding</a:t>
            </a:r>
            <a:endParaRPr b="0" lang="en-US" sz="4600" spc="-1" strike="noStrike">
              <a:solidFill>
                <a:srgbClr val="ffffff"/>
              </a:solidFill>
              <a:latin typeface="Franklin Gothic Book"/>
            </a:endParaRPr>
          </a:p>
        </p:txBody>
      </p:sp>
      <p:sp>
        <p:nvSpPr>
          <p:cNvPr id="36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ture funding for program grants, where you describe your plan for the assumption of funding by other sources, if the program is to continue when the grant runs ou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ssible future funding</a:t>
            </a:r>
            <a:endParaRPr b="0" lang="en-US" sz="4600" spc="-1" strike="noStrike">
              <a:solidFill>
                <a:srgbClr val="ffffff"/>
              </a:solidFill>
              <a:latin typeface="Franklin Gothic Book"/>
            </a:endParaRPr>
          </a:p>
        </p:txBody>
      </p:sp>
      <p:sp>
        <p:nvSpPr>
          <p:cNvPr id="36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ation absorb part of the funding?</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cipated revenue?</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party payers?</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ndation money?</a:t>
            </a:r>
            <a:endParaRPr b="0" lang="en-US" sz="3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Future Funding</a:t>
            </a:r>
            <a:endParaRPr b="0" lang="en-US" sz="4600" spc="-1" strike="noStrike">
              <a:solidFill>
                <a:srgbClr val="ffffff"/>
              </a:solidFill>
              <a:latin typeface="Franklin Gothic Book"/>
            </a:endParaRPr>
          </a:p>
        </p:txBody>
      </p:sp>
      <p:sp>
        <p:nvSpPr>
          <p:cNvPr id="36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resents a plan to provide future funding if program is to be continued</a:t>
            </a:r>
            <a:endParaRPr b="0"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07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tential Funding Sources</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ferences</a:t>
            </a:r>
            <a:endParaRPr b="0" lang="en-US" sz="4600" spc="-1" strike="noStrike">
              <a:solidFill>
                <a:srgbClr val="ffffff"/>
              </a:solidFill>
              <a:latin typeface="Franklin Gothic Book"/>
            </a:endParaRPr>
          </a:p>
        </p:txBody>
      </p:sp>
      <p:sp>
        <p:nvSpPr>
          <p:cNvPr id="37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Grant writing for educators: practical strategies for teachers, administrators, and staff.</a:t>
            </a:r>
            <a:r>
              <a:rPr b="0" lang="en-US" sz="2600" spc="-1" strike="noStrike">
                <a:solidFill>
                  <a:srgbClr val="ffffff"/>
                </a:solidFill>
                <a:latin typeface="Arial"/>
              </a:rPr>
              <a:t> (2004). Beverley A. Browning</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mith, N. B. &amp; Works, G. (2006). </a:t>
            </a:r>
            <a:r>
              <a:rPr b="0" i="1" lang="en-US" sz="2600" spc="-1" strike="noStrike">
                <a:solidFill>
                  <a:srgbClr val="ffffff"/>
                </a:solidFill>
                <a:latin typeface="Arial"/>
              </a:rPr>
              <a:t>The complete book of grant writing: learn to write grants like a professional. </a:t>
            </a:r>
            <a:r>
              <a:rPr b="0" lang="en-US" sz="2600" spc="-1" strike="noStrike">
                <a:solidFill>
                  <a:srgbClr val="ffffff"/>
                </a:solidFill>
                <a:latin typeface="Arial"/>
              </a:rPr>
              <a:t>Naperville, IL: Sourcebook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sites for non-profit guides: </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npguides.org/index.html</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managementhelp.org/fndrsng/np_raise/np_raise.ht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undations</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will be probably be asked for a letter.  The letter is a proposal.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 yourself to about three pages of narrative (delete the component headings)</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ress specific questions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ompany the proposal by a cover letter</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itional documents: total annual budget of past year or two, a financial statement, a few letters of support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Basic Principles of Proposal Writing</a:t>
            </a:r>
            <a:endParaRPr b="0" lang="en-US" sz="3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at, Clean</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ypos</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send more than one copy unless you’re asked</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reak up the copy (breathing spac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use extravagant/unusual packaging (bindings, etc. often just add work for those who process the proposal)</a:t>
            </a:r>
            <a:endParaRPr b="0"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Write your proposal in the most simple language possible</a:t>
            </a:r>
            <a:endParaRPr b="0" lang="en-US" sz="3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use bureaucrates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jargon only if you must and then define your terms (your reviewers may have a different understanding)</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st the clarity of your writing with friends outside of the field</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ke it Brief, just long enough to clearly communicate your messag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e Positive</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t yourself “up” for the proposal writing experienc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nt not a supplican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call attention to your mistak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your proposal apart from others with an innovative idea</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18:47:20Z</dcterms:created>
  <dc:creator>Oklahoma State University</dc:creator>
  <dc:description/>
  <cp:keywords/>
  <dc:language>en-US</dc:language>
  <cp:lastModifiedBy>OSU</cp:lastModifiedBy>
  <cp:lastPrinted>2004-11-12T18:50:18Z</cp:lastPrinted>
  <dcterms:modified xsi:type="dcterms:W3CDTF">2009-04-23T19:20:29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31033</vt:lpwstr>
  </property>
</Properties>
</file>